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EA22C-63CE-43F9-8A7A-3FE6B2D5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1CFCF-FC43-42C3-BA15-6D5D6AA0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5255C-33C2-4771-A4BF-51DCC92F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3ECC8-43E8-46AF-957D-71F46480B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2394-A1FC-4D4F-8DF9-197EFD03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8C0C-9F79-4268-8036-E4C86077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DC2B-E080-4186-A0CC-97B7B39C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6B5B-3D67-4D54-B752-F2ED98E4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C0D6-A2CF-4955-80DD-D5CB0114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C432-CC92-45B3-ADC8-40787608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5FE9-8089-47C5-801F-8D177B6B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DB2F6-B793-402D-A0A4-92296FBC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9F60-2193-4189-BEFF-278B78F7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ECB0-1CDA-413F-92DA-576421DF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AEB7-A4E5-4B53-92A0-8B2857BD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13C9-FE5B-4312-B68F-031B726A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E8BF-76B7-4F6E-99CE-1C159F19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3EFAF-3B5F-41EE-8856-C6A0574C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7649F-7C8E-435D-9C3F-7F2F13DB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6E8AE-4E11-4136-9AB9-72D5DCDF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AA255-8E70-4C80-B878-9E74DF0F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29610-F628-4E88-BA11-750B88F2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A18E6-4BE4-4816-94C1-64C678AA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83D38-3F6C-42A0-93E7-051B6A0E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7580-3C18-4949-BBD0-5FD24C98B40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072A-64EF-40DA-8C64-BBEAA96CD75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839160"/>
            <a:ext cx="9577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09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.30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О, малко стадо, в лютий бой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 се плаши от врага свой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га се разяр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 се плаши, герой бъд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е тук над всичко може б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видно той цар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140120"/>
            <a:ext cx="10082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Напред, напред все към целт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дойде ден, кога в свет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ам Господ ще цар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акар невидим, но е Той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пасал меча Си за бо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реха да побед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14084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В земята никой зъл превра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 ще да смогне, нито ад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риста да побед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пред, о, стадо, все напред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га сам Бог със нас е вред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 плашат ни бед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14228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4. Със тоя Вожд непобедим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пред ще смело да вървим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правдата борц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стигнем после в Божи двор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пеем там с безчетний хор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Божиите светци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4-17T09:07:58Z</dcterms:modified>
  <cp:revision>144</cp:revision>
  <dc:subject/>
  <dc:title>Slide 1</dc:title>
</cp:coreProperties>
</file>